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880-9A17-471D-98BA-7C4F9503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39B-9BBC-443B-92D0-ACC9AEDB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D16-5B2F-41E8-9846-EC4B220C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6EF-A6B6-4B50-B0D0-354CA945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DBF8-6206-4938-8BB6-9DF48512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D180-84EC-4839-B997-F2C8FBE2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DD28-89C0-41BD-BCC4-AC153F4F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0CB8-2C5C-40AA-A31A-BC47D0DC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ED24-2153-456B-8D10-AB8A44B8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68CE-8D17-44A2-8DB8-A1805672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96F2-8078-4742-AB62-3587EFC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1C3-200C-42AB-B478-DDB8AE46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DBA8-AF97-418E-A451-49F2967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D840-123C-4B05-B65F-C0512CE0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C7BA-BE2D-47C0-9E98-9654418C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A6BA-E567-4612-97E6-DA4375C0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C2BC-B696-412A-9B94-5B2EB1F3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2E2-D93B-425A-BE30-11F6B409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9A0-D5F4-4CE6-B1A2-A6797071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CD5-0253-44AB-9533-628F169F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89C-E4F5-4334-B48F-39DB27A3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C15-1C01-490A-9534-CD413A5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9F5-6A59-41AA-BCF0-C772FAF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D12-7AC9-41E1-9738-9958734D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36B6-21BE-411F-A0BF-F032F80C8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60A5-9E25-4C3E-AA21-C185803C958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珍貴的東西是免費的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知性之都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城市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4000" y="5084640"/>
            <a:ext cx="357048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台灣台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1"/>
          <p:cNvPicPr/>
          <p:nvPr/>
        </p:nvPicPr>
        <p:blipFill>
          <a:blip r:embed="rId1"/>
          <a:stretch/>
        </p:blipFill>
        <p:spPr>
          <a:xfrm>
            <a:off x="755640" y="2133720"/>
            <a:ext cx="4537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梯田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茶園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360" y="5013000"/>
            <a:ext cx="27986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阿里山茶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8"/>
          <p:cNvPicPr/>
          <p:nvPr/>
        </p:nvPicPr>
        <p:blipFill>
          <a:blip r:embed="rId1"/>
          <a:stretch/>
        </p:blipFill>
        <p:spPr>
          <a:xfrm>
            <a:off x="762120" y="2239920"/>
            <a:ext cx="52498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美麗漁港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漁港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40360" y="5084280"/>
            <a:ext cx="301464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淡水漁人碼頭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9"/>
          <p:cNvPicPr/>
          <p:nvPr/>
        </p:nvPicPr>
        <p:blipFill>
          <a:blip r:embed="rId1"/>
          <a:stretch/>
        </p:blipFill>
        <p:spPr>
          <a:xfrm>
            <a:off x="684360" y="2276640"/>
            <a:ext cx="5178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你發現了嗎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以上美景，都來自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標楷體"/>
              </a:rPr>
              <a:t>台灣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的某一個角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3284640"/>
            <a:ext cx="8270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你還認為「外國月亮比較圓」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4581360"/>
            <a:ext cx="8270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其實，美就在你身邊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世界上不是缺乏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3429000"/>
            <a:ext cx="4752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而是缺乏發現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56000" y="3429000"/>
            <a:ext cx="35956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標楷體"/>
              </a:rPr>
              <a:t>美的眼睛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蜿蜒河川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旅遊勝地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2000" y="5229000"/>
            <a:ext cx="313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花蓮秀姑巒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6"/>
          <p:cNvPicPr/>
          <p:nvPr/>
        </p:nvPicPr>
        <p:blipFill>
          <a:blip r:embed="rId1"/>
          <a:stretch/>
        </p:blipFill>
        <p:spPr>
          <a:xfrm>
            <a:off x="684360" y="2133720"/>
            <a:ext cx="5111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仙界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62120" y="571680"/>
            <a:ext cx="7619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00720" y="5013000"/>
            <a:ext cx="25099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高雄嘉明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0" descr="4"/>
          <p:cNvPicPr/>
          <p:nvPr/>
        </p:nvPicPr>
        <p:blipFill>
          <a:blip r:embed="rId1"/>
          <a:stretch/>
        </p:blipFill>
        <p:spPr>
          <a:xfrm>
            <a:off x="755640" y="20606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美境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則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900000" y="2133720"/>
            <a:ext cx="5112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588000" y="5157720"/>
            <a:ext cx="2305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日月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壯闊山景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惡地地形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6000" y="5013000"/>
            <a:ext cx="29527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高雄月世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8728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觀光島嶼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360" y="4941360"/>
            <a:ext cx="2590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宜蘭龜山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762120" y="2133720"/>
            <a:ext cx="5105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69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美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9640" y="3500280"/>
            <a:ext cx="8369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是用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心靈的眼睛</a:t>
            </a: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才能看到的東西。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蔥蘢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人造島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84720" y="5157720"/>
            <a:ext cx="305928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日月潭拉魯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7"/>
          <p:cNvPicPr/>
          <p:nvPr/>
        </p:nvPicPr>
        <p:blipFill>
          <a:blip r:embed="rId1"/>
          <a:stretch/>
        </p:blipFill>
        <p:spPr>
          <a:xfrm>
            <a:off x="611280" y="220500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0:48Z</dcterms:created>
  <dc:creator>edith</dc:creator>
  <dc:description/>
  <dc:language>en-US</dc:language>
  <cp:lastModifiedBy>MIS</cp:lastModifiedBy>
  <dcterms:modified xsi:type="dcterms:W3CDTF">2011-09-16T06:33:24Z</dcterms:modified>
  <cp:revision>30</cp:revision>
  <dc:subject/>
  <dc:title>最珍貴的東西是免費的</dc:title>
</cp:coreProperties>
</file>