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26C-BA64-4D70-8E6A-2441B450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2DE-87AE-4764-BE28-FD441526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EBA-429C-4354-B5B0-6703E519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ACD-B340-4EBD-9CCB-C328FF90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33B4-27D6-4CAB-BAD7-355C4F84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2608-0049-49E3-ADE9-5871C6FC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01ED-1B34-47D0-BB00-BBBE7338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9977-5D7F-439F-B4AA-766D8EDC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ABC4-EDE7-46A1-9B3D-52E99C94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5CE4-8F27-403A-AB00-352155E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66C9-53FF-4788-AF95-08CFD6D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037-49AF-413A-A71C-51F487F3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CEEF-2510-416F-94AC-915F51D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544C-532F-4507-B95E-8973ED1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A5AF-F307-4257-88BA-A7E091F9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43D5-EBEC-45D1-B639-E083797B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C76F-E41B-4743-B36F-F4CB52DD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2D7-2542-43A0-B48C-5A0415E5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A94-0397-4DD5-A11E-AB293FFB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9D1-A585-43C3-8F3F-05794541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4C9-9FDC-4A97-9F64-B7CCF87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C93-6D04-48DA-B219-2622ED1B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772-4F45-4E5F-A8E0-EDB3E9E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F4D-11A0-48E1-8DEA-AC56FC0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00DC-DFAF-4C49-9301-2D2C7E06B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23F1-84AB-4CDA-976F-F3D6DB6FC12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  <a:ea typeface="標楷體"/>
              </a:rPr>
              <a:t>最珍貴的東西是免費的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知性之都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城市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64000" y="5084640"/>
            <a:ext cx="357048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台灣台北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1"/>
          <p:cNvPicPr/>
          <p:nvPr/>
        </p:nvPicPr>
        <p:blipFill>
          <a:blip r:embed="rId1"/>
          <a:stretch/>
        </p:blipFill>
        <p:spPr>
          <a:xfrm>
            <a:off x="755640" y="2133720"/>
            <a:ext cx="4537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梯田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茶園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6360" y="5013000"/>
            <a:ext cx="279864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阿里山茶園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8"/>
          <p:cNvPicPr/>
          <p:nvPr/>
        </p:nvPicPr>
        <p:blipFill>
          <a:blip r:embed="rId1"/>
          <a:stretch/>
        </p:blipFill>
        <p:spPr>
          <a:xfrm>
            <a:off x="762120" y="2239920"/>
            <a:ext cx="52498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美麗漁港</a:t>
            </a:r>
            <a:br>
              <a:rPr sz="4400"/>
            </a:br>
            <a:r>
              <a:rPr b="0" lang="zh-TW" sz="44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漁港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40360" y="5084280"/>
            <a:ext cx="301464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淡水漁人碼頭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9"/>
          <p:cNvPicPr/>
          <p:nvPr/>
        </p:nvPicPr>
        <p:blipFill>
          <a:blip r:embed="rId1"/>
          <a:stretch/>
        </p:blipFill>
        <p:spPr>
          <a:xfrm>
            <a:off x="684360" y="2276640"/>
            <a:ext cx="5178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99"/>
                </a:solidFill>
                <a:latin typeface="Tahoma"/>
                <a:ea typeface="標楷體"/>
              </a:rPr>
              <a:t>你發現了嗎？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以上美景，都來自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標楷體"/>
              </a:rPr>
              <a:t>台灣</a:t>
            </a: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的某一個角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3284640"/>
            <a:ext cx="8270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你還認為「外國月亮比較圓」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4581360"/>
            <a:ext cx="8270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其實，美就在你身邊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920" y="2420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世界上不是缺乏美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3429000"/>
            <a:ext cx="475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而是缺乏發現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56000" y="3429000"/>
            <a:ext cx="35956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標楷體"/>
              </a:rPr>
              <a:t>美的眼睛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蜿蜒河川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旅遊勝地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2000" y="5229000"/>
            <a:ext cx="313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花蓮秀姑巒溪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6"/>
          <p:cNvPicPr/>
          <p:nvPr/>
        </p:nvPicPr>
        <p:blipFill>
          <a:blip r:embed="rId1"/>
          <a:stretch/>
        </p:blipFill>
        <p:spPr>
          <a:xfrm>
            <a:off x="684360" y="2133720"/>
            <a:ext cx="5111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仙界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   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62120" y="571680"/>
            <a:ext cx="7619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720" y="5013000"/>
            <a:ext cx="25099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高雄嘉明湖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0" descr="4"/>
          <p:cNvPicPr/>
          <p:nvPr/>
        </p:nvPicPr>
        <p:blipFill>
          <a:blip r:embed="rId1"/>
          <a:stretch/>
        </p:blipFill>
        <p:spPr>
          <a:xfrm>
            <a:off x="755640" y="20606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世外美境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   則是哪個國際知名湖泊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900000" y="2133720"/>
            <a:ext cx="5112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588000" y="5157720"/>
            <a:ext cx="23050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ahoma"/>
                <a:ea typeface="標楷體"/>
              </a:rPr>
              <a:t>日月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壯闊山景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惡地地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96000" y="5013000"/>
            <a:ext cx="295272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ahoma"/>
                <a:ea typeface="標楷體"/>
              </a:rPr>
              <a:t>高雄月世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87280" y="1989000"/>
            <a:ext cx="4176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碧綠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觀光島嶼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00360" y="4941360"/>
            <a:ext cx="2590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宜蘭龜山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762120" y="2133720"/>
            <a:ext cx="5105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369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美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39640" y="3500280"/>
            <a:ext cx="8369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是用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心靈的眼睛</a:t>
            </a:r>
            <a:r>
              <a:rPr b="1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才能看到的東西。</a:t>
            </a:r>
            <a:r>
              <a:rPr b="0" lang="zh-TW" sz="40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請猜猜這蔥蘢小島</a:t>
            </a:r>
            <a:br>
              <a:rPr sz="4000"/>
            </a:br>
            <a:r>
              <a:rPr b="0" lang="zh-TW" sz="4000" spc="-1" strike="noStrike">
                <a:solidFill>
                  <a:srgbClr val="333399"/>
                </a:solidFill>
                <a:latin typeface="Tahoma"/>
                <a:ea typeface="標楷體"/>
              </a:rPr>
              <a:t>         是哪個國際知名人造島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84720" y="5157720"/>
            <a:ext cx="305928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ahoma"/>
                <a:ea typeface="標楷體"/>
              </a:rPr>
              <a:t>日月潭拉魯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7"/>
          <p:cNvPicPr/>
          <p:nvPr/>
        </p:nvPicPr>
        <p:blipFill>
          <a:blip r:embed="rId1"/>
          <a:stretch/>
        </p:blipFill>
        <p:spPr>
          <a:xfrm>
            <a:off x="611280" y="220500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40:48Z</dcterms:created>
  <dc:creator>edith</dc:creator>
  <dc:description/>
  <dc:language>en-US</dc:language>
  <cp:lastModifiedBy>MIS</cp:lastModifiedBy>
  <dcterms:modified xsi:type="dcterms:W3CDTF">2011-09-16T06:33:24Z</dcterms:modified>
  <cp:revision>30</cp:revision>
  <dc:subject/>
  <dc:title>最珍貴的東西是免費的</dc:title>
</cp:coreProperties>
</file>