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47C-5133-4485-9F31-A03D056E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05F5-1EAC-4B63-86DB-46118E78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0EE-8987-48F9-9DF6-99723F9C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BEE-5620-45B6-B38D-57BE568C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5BEC-5083-4781-B36A-194D833A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B41A-789C-4B4B-AD46-CA53253B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2DEB-8ECC-483B-A9C6-284DFF94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3FEE-5DF1-4AA8-8213-14BEE7BF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ECA8-821D-4B82-8BA5-C3205159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AF85-DACB-418D-8FBF-AD6D5A5D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49A3-2D4C-4A48-A39A-C47FFD0D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8E8-AC2F-4194-A806-799AB844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89D0-6E26-492E-96F4-75C4AE6F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9CA2-3837-427C-A9FF-D059556E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ED4E-F870-430F-9164-DB44D837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0E63-3113-4B54-B949-597C8770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7433-9EBB-42F0-95EF-E3B952F5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A41F-099E-4187-A5FF-BC9BC3B4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1965-7B22-4713-BDAE-2B4B68A6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8E32-6B6C-459B-AE17-A691D8DC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5A3-16F5-4C96-9456-5AC90869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3398-9476-4E14-968F-7B0F2DD3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7EF8-1A6E-4F23-94EA-5A00C81D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D7C-E175-4E12-A2A9-133516BE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C4CF-AFE7-4F58-AA78-5A17AD8D5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AE6D-CACD-493F-B24C-54985F9F68A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最珍貴的東西是免費的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知性之都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   是哪個國際知名城市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64000" y="5084640"/>
            <a:ext cx="3570480" cy="13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台灣台北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6" descr="1"/>
          <p:cNvPicPr/>
          <p:nvPr/>
        </p:nvPicPr>
        <p:blipFill>
          <a:blip r:embed="rId1"/>
          <a:stretch/>
        </p:blipFill>
        <p:spPr>
          <a:xfrm>
            <a:off x="755640" y="2133720"/>
            <a:ext cx="45370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碧綠梯田</a:t>
            </a:r>
            <a:br>
              <a:rPr sz="4400"/>
            </a:b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茶園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56360" y="5013000"/>
            <a:ext cx="279864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阿里山茶園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8"/>
          <p:cNvPicPr/>
          <p:nvPr/>
        </p:nvPicPr>
        <p:blipFill>
          <a:blip r:embed="rId1"/>
          <a:stretch/>
        </p:blipFill>
        <p:spPr>
          <a:xfrm>
            <a:off x="762120" y="2239920"/>
            <a:ext cx="524988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美麗漁港</a:t>
            </a:r>
            <a:br>
              <a:rPr sz="4400"/>
            </a:b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漁港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40360" y="5084280"/>
            <a:ext cx="3014640" cy="10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淡水漁人碼頭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9"/>
          <p:cNvPicPr/>
          <p:nvPr/>
        </p:nvPicPr>
        <p:blipFill>
          <a:blip r:embed="rId1"/>
          <a:stretch/>
        </p:blipFill>
        <p:spPr>
          <a:xfrm>
            <a:off x="684360" y="2276640"/>
            <a:ext cx="51782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你發現了嗎？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以上美景，都來自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標楷體"/>
              </a:rPr>
              <a:t>台灣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的某一個角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84360" y="3284640"/>
            <a:ext cx="82706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你還認為「外國月亮比較圓」嗎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84360" y="4581360"/>
            <a:ext cx="827064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其實，美就在你身邊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42920" y="2420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世界上不是缺乏美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3429000"/>
            <a:ext cx="47527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而是缺乏發現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356000" y="3429000"/>
            <a:ext cx="35956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TW" sz="4800" spc="-1" strike="noStrike">
                <a:solidFill>
                  <a:srgbClr val="ff0000"/>
                </a:solidFill>
                <a:latin typeface="Tahoma"/>
                <a:ea typeface="標楷體"/>
              </a:rPr>
              <a:t>美的眼睛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蜿蜒河川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旅遊勝地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12000" y="5229000"/>
            <a:ext cx="313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花蓮秀姑巒溪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4" descr="6"/>
          <p:cNvPicPr/>
          <p:nvPr/>
        </p:nvPicPr>
        <p:blipFill>
          <a:blip r:embed="rId1"/>
          <a:stretch/>
        </p:blipFill>
        <p:spPr>
          <a:xfrm>
            <a:off x="684360" y="2133720"/>
            <a:ext cx="51116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世外仙界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   是哪個國際知名湖泊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762120" y="571680"/>
            <a:ext cx="76197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00720" y="5013000"/>
            <a:ext cx="250992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高雄嘉明湖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10" descr="4"/>
          <p:cNvPicPr/>
          <p:nvPr/>
        </p:nvPicPr>
        <p:blipFill>
          <a:blip r:embed="rId1"/>
          <a:stretch/>
        </p:blipFill>
        <p:spPr>
          <a:xfrm>
            <a:off x="755640" y="2060640"/>
            <a:ext cx="52563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世外美境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則是哪個國際知名湖泊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2"/>
          <p:cNvPicPr/>
          <p:nvPr/>
        </p:nvPicPr>
        <p:blipFill>
          <a:blip r:embed="rId1"/>
          <a:stretch/>
        </p:blipFill>
        <p:spPr>
          <a:xfrm>
            <a:off x="900000" y="2133720"/>
            <a:ext cx="511200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588000" y="5157720"/>
            <a:ext cx="23050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ahoma"/>
                <a:ea typeface="標楷體"/>
              </a:rPr>
              <a:t>日月潭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壯闊山景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惡地地形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96000" y="5013000"/>
            <a:ext cx="295272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高雄月世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1187280" y="1989000"/>
            <a:ext cx="41767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碧綠小島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觀光島嶼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00360" y="4941360"/>
            <a:ext cx="25909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宜蘭龜山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6" descr="5"/>
          <p:cNvPicPr/>
          <p:nvPr/>
        </p:nvPicPr>
        <p:blipFill>
          <a:blip r:embed="rId1"/>
          <a:stretch/>
        </p:blipFill>
        <p:spPr>
          <a:xfrm>
            <a:off x="762120" y="2133720"/>
            <a:ext cx="5105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369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美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39640" y="3500280"/>
            <a:ext cx="83692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是用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心靈的眼睛</a:t>
            </a:r>
            <a:r>
              <a:rPr b="1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才能看到的東西。</a:t>
            </a:r>
            <a:r>
              <a:rPr b="0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3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蔥蘢小島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人造島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84720" y="5157720"/>
            <a:ext cx="3059280" cy="9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日月潭拉魯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7"/>
          <p:cNvPicPr/>
          <p:nvPr/>
        </p:nvPicPr>
        <p:blipFill>
          <a:blip r:embed="rId1"/>
          <a:stretch/>
        </p:blipFill>
        <p:spPr>
          <a:xfrm>
            <a:off x="611280" y="2205000"/>
            <a:ext cx="53942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1:40:48Z</dcterms:created>
  <dc:creator>edith</dc:creator>
  <dc:description/>
  <dc:language>en-US</dc:language>
  <cp:lastModifiedBy>MIS</cp:lastModifiedBy>
  <dcterms:modified xsi:type="dcterms:W3CDTF">2011-09-16T06:33:24Z</dcterms:modified>
  <cp:revision>30</cp:revision>
  <dc:subject/>
  <dc:title>最珍貴的東西是免費的</dc:title>
</cp:coreProperties>
</file>