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D78-3B82-4B89-82D2-3A228F8A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F56-FF82-4401-A638-3940AAA2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1E5-13E1-47F3-9E4E-A7E8EBB2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3F2-BDC8-401C-8457-1540AD6A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B291-F966-4A9A-8118-B5A4C6CD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8233-7C5A-4483-AD2D-459B9C8C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BB56-BA9E-4102-B929-306B5E06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574C-BB36-43AF-9EAD-797B41AD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E2A9-FB24-4642-A747-1FE6D51D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B8FF-161A-44DD-9A3C-356E67D9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67D2-F8BA-4740-938A-4151C1DB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7E8-2A72-4D14-8B61-E0DEE52F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BE7F-F3CE-4255-B5A7-3B5C64F6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006A-9A8A-4323-A245-DBEFAB8E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AADF-4D3B-4626-A49D-C12DE360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AE2C-D01E-4459-AEBB-5BDB2625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5766-C4E2-49E7-A4E4-95FC1F98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953B-439F-4BAF-8C0B-F72146C7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B7C-E9B2-4855-AAEC-41769D24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7E0-B235-4BAC-8B07-9EFED27C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249-4670-4430-928C-DD172DDE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F0B-0E55-42D8-A33B-A5A0362C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164-40C5-4DFC-A05A-1E4A5D0A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C9B-D9C9-4643-B88E-121AD287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39E2-0F88-4DDD-973C-ADA8F6363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F141-3E00-4741-97BC-77DD3D66548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最珍貴的東西是免費的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知性之都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   是哪個國際知名城市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64000" y="5084640"/>
            <a:ext cx="3570480" cy="13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台灣台北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1"/>
          <p:cNvPicPr/>
          <p:nvPr/>
        </p:nvPicPr>
        <p:blipFill>
          <a:blip r:embed="rId1"/>
          <a:stretch/>
        </p:blipFill>
        <p:spPr>
          <a:xfrm>
            <a:off x="755640" y="2133720"/>
            <a:ext cx="45370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碧綠梯田</a:t>
            </a: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茶園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56360" y="5013000"/>
            <a:ext cx="279864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阿里山茶園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8"/>
          <p:cNvPicPr/>
          <p:nvPr/>
        </p:nvPicPr>
        <p:blipFill>
          <a:blip r:embed="rId1"/>
          <a:stretch/>
        </p:blipFill>
        <p:spPr>
          <a:xfrm>
            <a:off x="762120" y="2239920"/>
            <a:ext cx="524988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美麗漁港</a:t>
            </a: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漁港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40360" y="5084280"/>
            <a:ext cx="3014640" cy="10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淡水漁人碼頭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9"/>
          <p:cNvPicPr/>
          <p:nvPr/>
        </p:nvPicPr>
        <p:blipFill>
          <a:blip r:embed="rId1"/>
          <a:stretch/>
        </p:blipFill>
        <p:spPr>
          <a:xfrm>
            <a:off x="684360" y="2276640"/>
            <a:ext cx="51782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你發現了嗎？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以上美景，都來自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標楷體"/>
              </a:rPr>
              <a:t>台灣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的某一個角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3284640"/>
            <a:ext cx="8270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你還認為「外國月亮比較圓」嗎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84360" y="4581360"/>
            <a:ext cx="8270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其實，美就在你身邊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42920" y="2420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世界上不是缺乏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3429000"/>
            <a:ext cx="47527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而是缺乏發現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356000" y="3429000"/>
            <a:ext cx="35956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TW" sz="4800" spc="-1" strike="noStrike">
                <a:solidFill>
                  <a:srgbClr val="ff0000"/>
                </a:solidFill>
                <a:latin typeface="Tahoma"/>
                <a:ea typeface="標楷體"/>
              </a:rPr>
              <a:t>美的眼睛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蜿蜒河川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旅遊勝地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2000" y="5229000"/>
            <a:ext cx="313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花蓮秀姑巒溪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6"/>
          <p:cNvPicPr/>
          <p:nvPr/>
        </p:nvPicPr>
        <p:blipFill>
          <a:blip r:embed="rId1"/>
          <a:stretch/>
        </p:blipFill>
        <p:spPr>
          <a:xfrm>
            <a:off x="684360" y="2133720"/>
            <a:ext cx="5111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世外仙界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   是哪個國際知名湖泊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762120" y="571680"/>
            <a:ext cx="76197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00720" y="5013000"/>
            <a:ext cx="250992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高雄嘉明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10" descr="4"/>
          <p:cNvPicPr/>
          <p:nvPr/>
        </p:nvPicPr>
        <p:blipFill>
          <a:blip r:embed="rId1"/>
          <a:stretch/>
        </p:blipFill>
        <p:spPr>
          <a:xfrm>
            <a:off x="755640" y="20606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世外美境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則是哪個國際知名湖泊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2"/>
          <p:cNvPicPr/>
          <p:nvPr/>
        </p:nvPicPr>
        <p:blipFill>
          <a:blip r:embed="rId1"/>
          <a:stretch/>
        </p:blipFill>
        <p:spPr>
          <a:xfrm>
            <a:off x="900000" y="2133720"/>
            <a:ext cx="51120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588000" y="5157720"/>
            <a:ext cx="23050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ahoma"/>
                <a:ea typeface="標楷體"/>
              </a:rPr>
              <a:t>日月潭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壯闊山景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惡地地形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96000" y="5013000"/>
            <a:ext cx="295272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高雄月世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1187280" y="1989000"/>
            <a:ext cx="41767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碧綠小島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觀光島嶼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00360" y="4941360"/>
            <a:ext cx="2590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宜蘭龜山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762120" y="2133720"/>
            <a:ext cx="5105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369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美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39640" y="3500280"/>
            <a:ext cx="8369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是用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心靈的眼睛</a:t>
            </a: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才能看到的東西。</a:t>
            </a: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蔥蘢小島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人造島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84720" y="5157720"/>
            <a:ext cx="3059280" cy="9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日月潭拉魯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7"/>
          <p:cNvPicPr/>
          <p:nvPr/>
        </p:nvPicPr>
        <p:blipFill>
          <a:blip r:embed="rId1"/>
          <a:stretch/>
        </p:blipFill>
        <p:spPr>
          <a:xfrm>
            <a:off x="611280" y="2205000"/>
            <a:ext cx="53942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1:40:48Z</dcterms:created>
  <dc:creator>edith</dc:creator>
  <dc:description/>
  <dc:language>en-US</dc:language>
  <cp:lastModifiedBy>MIS</cp:lastModifiedBy>
  <dcterms:modified xsi:type="dcterms:W3CDTF">2011-09-16T06:33:24Z</dcterms:modified>
  <cp:revision>30</cp:revision>
  <dc:subject/>
  <dc:title>最珍貴的東西是免費的</dc:title>
</cp:coreProperties>
</file>